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161-6731-474B-8C7A-02E55FB8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5931-1EDE-4074-9EDE-EBF0D1D1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1AF-6DB6-4564-9165-24FBAD9F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1CB9-017C-4E63-A3D0-63C8B66C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471-7A5A-4BB3-852D-6300158A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BB5-DB60-4051-AF56-313D4B5A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A10-B98A-44A5-871D-1BC0F0C4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522-9E7B-470B-B6E0-DCC05B8E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9AF-D7A2-4D59-8E53-FB48F42F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BBB-98C4-419D-9761-AC2F2247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AEE-C0B1-4617-8DD3-BDDD194C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080-4A78-4C27-ADDC-BE634058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28E0F1-DD66-49E8-B0E5-F75B912FF3E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Davidson_13e_Table 2.1.jpg"/>
          <p:cNvPicPr/>
          <p:nvPr/>
        </p:nvPicPr>
        <p:blipFill>
          <a:blip r:embed="rId1"/>
          <a:stretch/>
        </p:blipFill>
        <p:spPr>
          <a:xfrm>
            <a:off x="1428840" y="0"/>
            <a:ext cx="62863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9:26:36Z</dcterms:created>
  <dc:creator>Administrator</dc:creator>
  <dc:description/>
  <dc:language>en-US</dc:language>
  <cp:lastModifiedBy>Administrator</cp:lastModifiedBy>
  <dcterms:modified xsi:type="dcterms:W3CDTF">2012-04-04T09:27:28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