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D59-65EC-4A73-B50A-A96238EA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BA0-68DE-4323-B176-07C0187D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235-BF79-48F0-9526-8F74BC75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04B-5179-4328-BFE6-9C864D75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5AA-A59B-4E57-BF6A-5DA69B7A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5DB-E418-4241-B87A-4C395F26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973-69D5-4186-B103-029F619D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3A9-F6BC-4D65-A116-B5CEDE7F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629-27AB-4E3A-B37B-F564F225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AA9-D948-43A2-852E-6E99DDC9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353-799A-446B-AD8F-F8DEBDE1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E99-0ABA-49D7-87FC-2CA7603E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7C05D8-ECE8-49B7-8DE5-521C3664A63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3e_Figure 3.1.jpg"/>
          <p:cNvPicPr/>
          <p:nvPr/>
        </p:nvPicPr>
        <p:blipFill>
          <a:blip r:embed="rId1"/>
          <a:stretch/>
        </p:blipFill>
        <p:spPr>
          <a:xfrm>
            <a:off x="712800" y="0"/>
            <a:ext cx="7718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3e_Figure 3.2.jpg"/>
          <p:cNvPicPr/>
          <p:nvPr/>
        </p:nvPicPr>
        <p:blipFill>
          <a:blip r:embed="rId1"/>
          <a:stretch/>
        </p:blipFill>
        <p:spPr>
          <a:xfrm>
            <a:off x="2505240" y="0"/>
            <a:ext cx="41320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3e_Box_Figure 3.1.jpg"/>
          <p:cNvPicPr/>
          <p:nvPr/>
        </p:nvPicPr>
        <p:blipFill>
          <a:blip r:embed="rId1"/>
          <a:stretch/>
        </p:blipFill>
        <p:spPr>
          <a:xfrm>
            <a:off x="679320" y="0"/>
            <a:ext cx="7784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27:48Z</dcterms:created>
  <dc:creator>Administrator</dc:creator>
  <dc:description/>
  <dc:language>en-US</dc:language>
  <cp:lastModifiedBy>Administrator</cp:lastModifiedBy>
  <dcterms:modified xsi:type="dcterms:W3CDTF">2012-04-04T09:28:02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