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FB1-527C-47F1-946C-5B83E351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55D-5ACB-4FC3-B8D3-DFEE937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75E-4D64-445B-9E7D-1BA3CB0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C37-879A-44A8-B799-03442812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53D-0ED5-4F92-B569-1001014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D19-23E0-4F2A-B657-22B5024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8D8-813D-4DB0-8761-AEAD931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7F4-8E15-4257-A6A7-C9E261F6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DC0-C10C-4114-8226-08F47ED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339-B0F5-4A7A-8E7C-8782869A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261-4314-4382-B980-3521EC10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B7B-C1B0-441E-880E-DC06C54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3F1C8-A06C-468D-AB19-D50E4B55F5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Table 5.1.jpg"/>
          <p:cNvPicPr/>
          <p:nvPr/>
        </p:nvPicPr>
        <p:blipFill>
          <a:blip r:embed="rId1"/>
          <a:stretch/>
        </p:blipFill>
        <p:spPr>
          <a:xfrm>
            <a:off x="1620720" y="0"/>
            <a:ext cx="59004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Table 5.2.jpg"/>
          <p:cNvPicPr/>
          <p:nvPr/>
        </p:nvPicPr>
        <p:blipFill>
          <a:blip r:embed="rId1"/>
          <a:stretch/>
        </p:blipFill>
        <p:spPr>
          <a:xfrm>
            <a:off x="2552760" y="0"/>
            <a:ext cx="4038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9:55Z</dcterms:created>
  <dc:creator>Administrator</dc:creator>
  <dc:description/>
  <dc:language>en-US</dc:language>
  <cp:lastModifiedBy>Administrator</cp:lastModifiedBy>
  <dcterms:modified xsi:type="dcterms:W3CDTF">2012-04-04T09:30:0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