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B23-D3C7-41AA-80D7-6C71E26D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36B-3D53-44BF-BFFD-DDC5F477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4B1-8347-4722-BB3F-9C63ECE3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DA5-93AE-4BF2-A735-2E37245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B63-56FC-4439-A827-507F3722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26E-3674-4AED-BCB1-695D00C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9CB-4F85-4B72-8892-9B776B09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12D-4A22-4659-8DBF-DBC161CE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4BD-5AFD-4D83-8A77-3D93B146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438-4913-4AAA-8DEE-B244720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238-3115-4AEC-9B8E-41695AF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9B4-4D65-4FC6-9C6D-BA5794C7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BD8DE6-5294-4967-A764-049D2973A4F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6.1.jpg"/>
          <p:cNvPicPr/>
          <p:nvPr/>
        </p:nvPicPr>
        <p:blipFill>
          <a:blip r:embed="rId1"/>
          <a:stretch/>
        </p:blipFill>
        <p:spPr>
          <a:xfrm>
            <a:off x="2425680" y="0"/>
            <a:ext cx="4290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6.2.jpg"/>
          <p:cNvPicPr/>
          <p:nvPr/>
        </p:nvPicPr>
        <p:blipFill>
          <a:blip r:embed="rId1"/>
          <a:stretch/>
        </p:blipFill>
        <p:spPr>
          <a:xfrm>
            <a:off x="2235240" y="0"/>
            <a:ext cx="46731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Table 6.1.jpg"/>
          <p:cNvPicPr/>
          <p:nvPr/>
        </p:nvPicPr>
        <p:blipFill>
          <a:blip r:embed="rId1"/>
          <a:stretch/>
        </p:blipFill>
        <p:spPr>
          <a:xfrm>
            <a:off x="1773360" y="0"/>
            <a:ext cx="5597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30:31Z</dcterms:created>
  <dc:creator>Administrator</dc:creator>
  <dc:description/>
  <dc:language>en-US</dc:language>
  <cp:lastModifiedBy>Administrator</cp:lastModifiedBy>
  <dcterms:modified xsi:type="dcterms:W3CDTF">2012-04-04T09:30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