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780-A266-4689-9805-6F0FB278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A2D-D796-4A00-9BCF-E452B545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D7C-396C-460F-9083-5CF07D34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835-C7C1-43A5-AE9B-0ABF38F9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CD4-7A17-4C8F-9DDD-0AC29AB8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0A5-6231-4DF7-AA62-80E3692D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A79-6D78-4F28-87B7-7CBC08CB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31F-BA39-4011-B8C5-E1A4EDF5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894-E3FD-411B-9E7C-5364A00C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29F-EE6B-41BE-9452-CE61A241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D57-3483-43AC-8C18-4556ADCB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B7A-3497-4D35-B20E-197F9895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DBC2A7-D80B-404D-87C9-463DA55B648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Table 7.1.jpg"/>
          <p:cNvPicPr/>
          <p:nvPr/>
        </p:nvPicPr>
        <p:blipFill>
          <a:blip r:embed="rId1"/>
          <a:stretch/>
        </p:blipFill>
        <p:spPr>
          <a:xfrm>
            <a:off x="1625760" y="0"/>
            <a:ext cx="58906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Table 7.2.jpg"/>
          <p:cNvPicPr/>
          <p:nvPr/>
        </p:nvPicPr>
        <p:blipFill>
          <a:blip r:embed="rId1"/>
          <a:stretch/>
        </p:blipFill>
        <p:spPr>
          <a:xfrm>
            <a:off x="1585800" y="0"/>
            <a:ext cx="59716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31:04Z</dcterms:created>
  <dc:creator>Administrator</dc:creator>
  <dc:description/>
  <dc:language>en-US</dc:language>
  <cp:lastModifiedBy>Administrator</cp:lastModifiedBy>
  <dcterms:modified xsi:type="dcterms:W3CDTF">2012-04-04T09:31:17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</vt:r8>
  </property>
</Properties>
</file>