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F36-395B-4999-BB82-5C44458E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B1F-C768-46CF-BBAB-F4E02090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F2D-D4CB-44D3-A55B-38AA9EF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994-6532-41AD-8D54-D4F5B13F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3C8-9E4C-4554-A140-A536FDD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16B-61BA-4C7A-9A18-622C243A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700-50EB-441B-A8B2-590FE48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B44-2C1F-46F6-AA08-D2E045C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AD1-52EA-4A06-AFBB-1253F47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7C-C62B-4D68-BED6-CC72B32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024-E653-4B91-85F0-301C363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91D-5ACF-4235-AC13-6D5E152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02FE20-94DC-4837-B150-A937387C77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8.1.jpg"/>
          <p:cNvPicPr/>
          <p:nvPr/>
        </p:nvPicPr>
        <p:blipFill>
          <a:blip r:embed="rId1"/>
          <a:stretch/>
        </p:blipFill>
        <p:spPr>
          <a:xfrm>
            <a:off x="2481120" y="0"/>
            <a:ext cx="4181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8.1.jpg"/>
          <p:cNvPicPr/>
          <p:nvPr/>
        </p:nvPicPr>
        <p:blipFill>
          <a:blip r:embed="rId1"/>
          <a:stretch/>
        </p:blipFill>
        <p:spPr>
          <a:xfrm>
            <a:off x="2563920" y="0"/>
            <a:ext cx="4016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31Z</dcterms:created>
  <dc:creator>Administrator</dc:creator>
  <dc:description/>
  <dc:language>en-US</dc:language>
  <cp:lastModifiedBy>Administrator</cp:lastModifiedBy>
  <dcterms:modified xsi:type="dcterms:W3CDTF">2012-04-04T09:31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