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AB3F-FCC9-47E3-A0F6-F208339C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3813-F202-4073-9B90-767580F3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AD4-0F1C-4B6A-9226-61D6EDDC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232C-AC5C-411C-B0EC-03713B74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EA5-2E3C-497E-B8FB-0B7FAB72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738-A9D3-46F0-AD36-7DA8035D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DF92-43D6-4CC4-BB6E-BC2DE189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B90-E0B3-475A-B30C-F08EEF39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9A7-F5FC-4FCA-8B14-D4725C8B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5793-AB44-40F4-91FA-97F83493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B20-9D1C-410C-A840-528734F5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E81-8B4B-4654-819A-EAF95BF2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D4BDA4-8ECD-45EA-AE45-E7AD3511E4C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Figure 9.1.jpg"/>
          <p:cNvPicPr/>
          <p:nvPr/>
        </p:nvPicPr>
        <p:blipFill>
          <a:blip r:embed="rId1"/>
          <a:stretch/>
        </p:blipFill>
        <p:spPr>
          <a:xfrm>
            <a:off x="169920" y="0"/>
            <a:ext cx="8803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Figure 9.2.jpg"/>
          <p:cNvPicPr/>
          <p:nvPr/>
        </p:nvPicPr>
        <p:blipFill>
          <a:blip r:embed="rId1"/>
          <a:stretch/>
        </p:blipFill>
        <p:spPr>
          <a:xfrm>
            <a:off x="392040" y="0"/>
            <a:ext cx="83595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3e_Figure 9.3.jpg"/>
          <p:cNvPicPr/>
          <p:nvPr/>
        </p:nvPicPr>
        <p:blipFill>
          <a:blip r:embed="rId1"/>
          <a:stretch/>
        </p:blipFill>
        <p:spPr>
          <a:xfrm>
            <a:off x="2544840" y="0"/>
            <a:ext cx="40525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avidson_13e_Figure 9.4.jpg"/>
          <p:cNvPicPr/>
          <p:nvPr/>
        </p:nvPicPr>
        <p:blipFill>
          <a:blip r:embed="rId1"/>
          <a:stretch/>
        </p:blipFill>
        <p:spPr>
          <a:xfrm>
            <a:off x="425520" y="0"/>
            <a:ext cx="82911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31:59Z</dcterms:created>
  <dc:creator>Administrator</dc:creator>
  <dc:description/>
  <dc:language>en-US</dc:language>
  <cp:lastModifiedBy>Administrator</cp:lastModifiedBy>
  <dcterms:modified xsi:type="dcterms:W3CDTF">2012-04-04T09:32:19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