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9145-2857-42CF-B4A0-C4A4BC31C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1103-79B0-47A0-AD34-03577FB74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5143-9645-40F7-A284-6714B6748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8F5C-5A07-480D-BD9D-B7A9E7530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B571-0200-4C22-B41A-274442052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BA69-B3B6-4716-9D6C-F85D8E0D7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77D4-F35E-4ECB-ABFF-BD80FE065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E23C-53B7-4803-A141-4A6EE8695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7899-326B-4D5A-8660-780F5A53C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97EE-C892-4AF4-9779-23ED7C68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9E29-48C9-4BF2-989F-C45D11F55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EDFD-D016-4A29-AC33-5C3FFE471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3D95EE3-9B50-42D8-BBF0-077A31F263E2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Davidson_13e_Figure 11.1.jpg"/>
          <p:cNvPicPr/>
          <p:nvPr/>
        </p:nvPicPr>
        <p:blipFill>
          <a:blip r:embed="rId1"/>
          <a:stretch/>
        </p:blipFill>
        <p:spPr>
          <a:xfrm>
            <a:off x="2455920" y="0"/>
            <a:ext cx="423180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Davidson_13e_Figure 11.2.jpg"/>
          <p:cNvPicPr/>
          <p:nvPr/>
        </p:nvPicPr>
        <p:blipFill>
          <a:blip r:embed="rId1"/>
          <a:stretch/>
        </p:blipFill>
        <p:spPr>
          <a:xfrm>
            <a:off x="1911240" y="0"/>
            <a:ext cx="532080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Davidson_13e_Table 11.1.jpg"/>
          <p:cNvPicPr/>
          <p:nvPr/>
        </p:nvPicPr>
        <p:blipFill>
          <a:blip r:embed="rId1"/>
          <a:stretch/>
        </p:blipFill>
        <p:spPr>
          <a:xfrm>
            <a:off x="884160" y="0"/>
            <a:ext cx="737532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Davidson_13e_Table 11.2.jpg"/>
          <p:cNvPicPr/>
          <p:nvPr/>
        </p:nvPicPr>
        <p:blipFill>
          <a:blip r:embed="rId1"/>
          <a:stretch/>
        </p:blipFill>
        <p:spPr>
          <a:xfrm>
            <a:off x="1911240" y="0"/>
            <a:ext cx="532080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0</Words>
  <Paragraphs>0</Paragraphs>
  <Company>C &amp; M Digitals (P) Ltd.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09:32:30Z</dcterms:created>
  <dc:creator>Administrator</dc:creator>
  <dc:description/>
  <dc:language>en-US</dc:language>
  <cp:lastModifiedBy>Administrator</cp:lastModifiedBy>
  <dcterms:modified xsi:type="dcterms:W3CDTF">2012-04-04T09:32:44Z</dcterms:modified>
  <cp:revision>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4</vt:r8>
  </property>
</Properties>
</file>