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398-E963-48B3-BFBC-0CAE5F08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E7E-1854-4DC0-B232-20E2FFE6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817-F76D-4012-9044-513B10EB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0F6-BA30-4057-9CA1-C41173A9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7EA-87DF-4F39-B61A-027AF7F2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CC3-06B8-4255-8F8D-4A315762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7C8-EDD9-44EF-9FB3-D1AB8871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A21-5280-4A2C-9181-73ADEFEB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70F-F23C-4088-9698-25665D73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354-DCC1-4CA8-8B2E-4D02F2EF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E04-025E-41C6-A187-3632626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246-C110-4E42-8C69-25E429C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EA9440-3597-4A0E-9535-1FCACC915CF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Table 12.1.jpg"/>
          <p:cNvPicPr/>
          <p:nvPr/>
        </p:nvPicPr>
        <p:blipFill>
          <a:blip r:embed="rId1"/>
          <a:stretch/>
        </p:blipFill>
        <p:spPr>
          <a:xfrm>
            <a:off x="2316240" y="0"/>
            <a:ext cx="45097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Table 12.2.jpg"/>
          <p:cNvPicPr/>
          <p:nvPr/>
        </p:nvPicPr>
        <p:blipFill>
          <a:blip r:embed="rId1"/>
          <a:stretch/>
        </p:blipFill>
        <p:spPr>
          <a:xfrm>
            <a:off x="2766960" y="0"/>
            <a:ext cx="36097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Table 12.2(Continued).jpg"/>
          <p:cNvPicPr/>
          <p:nvPr/>
        </p:nvPicPr>
        <p:blipFill>
          <a:blip r:embed="rId1"/>
          <a:stretch/>
        </p:blipFill>
        <p:spPr>
          <a:xfrm>
            <a:off x="2994120" y="0"/>
            <a:ext cx="3155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2:58Z</dcterms:created>
  <dc:creator>Administrator</dc:creator>
  <dc:description/>
  <dc:language>en-US</dc:language>
  <cp:lastModifiedBy>Administrator</cp:lastModifiedBy>
  <dcterms:modified xsi:type="dcterms:W3CDTF">2012-04-04T09:33:1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