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620-3ABA-4CAE-A1DF-0F78D64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F7B-B891-48E7-B0CE-C3E24224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C96-1300-4638-9F31-F54102EE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FF9-2D1E-45C8-91A0-5E51B539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E1E-D082-4220-8488-C5D93FE1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08F-E938-403D-8D05-1B4FA2ED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F83-3CE2-4B1E-BD2B-2387FA9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CCB-46D3-40F0-B3F8-4434433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AB8-833E-4676-8ECD-486B8738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4AD-B436-4BF5-B81C-FDB36F2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B72-E532-4819-8DF4-B0E0392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930-8795-48BE-8374-5F276F6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546495-20D9-4256-A66C-15E775B1615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Davidson_13e_Figure 14.1.jpg"/>
          <p:cNvPicPr/>
          <p:nvPr/>
        </p:nvPicPr>
        <p:blipFill>
          <a:blip r:embed="rId1"/>
          <a:stretch/>
        </p:blipFill>
        <p:spPr>
          <a:xfrm>
            <a:off x="2392200" y="0"/>
            <a:ext cx="4357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3:22Z</dcterms:created>
  <dc:creator>Administrator</dc:creator>
  <dc:description/>
  <dc:language>en-US</dc:language>
  <cp:lastModifiedBy>Administrator</cp:lastModifiedBy>
  <dcterms:modified xsi:type="dcterms:W3CDTF">2012-04-04T09:33:33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