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983-4CCD-4F20-B380-0F83C8C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C68-3B29-4E0A-9C7F-078BA75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676-2D28-45B1-8E1C-76FDEB65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ACD-70FB-4B4D-A117-346CC811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968-2360-4A28-9485-D0A04F35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865-C889-492B-A5AA-16B87F59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4AF-9AFB-49D1-9C0C-077A21A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9F8-A32F-4677-B2A7-D56B70D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315-61E1-4432-A139-279D8B4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EDA-9529-4343-98A9-A94E2B8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CCD-D841-4E7A-B30A-6ED252EB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A3C-3C0C-4F89-B5C0-3B2584D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FA2FD0-4462-49E9-BE06-31B9B84526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Figure 15.1.jpg"/>
          <p:cNvPicPr/>
          <p:nvPr/>
        </p:nvPicPr>
        <p:blipFill>
          <a:blip r:embed="rId1"/>
          <a:stretch/>
        </p:blipFill>
        <p:spPr>
          <a:xfrm>
            <a:off x="1415880" y="0"/>
            <a:ext cx="6310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44:31Z</dcterms:created>
  <dc:creator>Administrator</dc:creator>
  <dc:description/>
  <dc:language>en-US</dc:language>
  <cp:lastModifiedBy>Administrator</cp:lastModifiedBy>
  <dcterms:modified xsi:type="dcterms:W3CDTF">2012-04-04T09:44:4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