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A1A-15D5-4619-8517-3202AC9A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66B-0447-42C4-B393-D95DD8AE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65E-DCAF-46BC-897B-69B5C448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C7A-5F58-444B-A9DB-DF4A0A5B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CAE-EFE1-4FCD-A110-FF4B1E6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F01-9CE4-478A-BCED-E8D8D42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5E5-454D-4333-9ACF-68E02A5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CF7-3A14-4406-9710-0EF5762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B46-59E2-4B42-98F3-008527D0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882-F6D3-48CD-A3D2-AB04A07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B0F-BCB7-4BED-B158-2F262B3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7C3-1E33-47D3-BCA0-37305B1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54FDB2-987A-4229-95DC-87DDEDDD22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16.1.jpg"/>
          <p:cNvPicPr/>
          <p:nvPr/>
        </p:nvPicPr>
        <p:blipFill>
          <a:blip r:embed="rId1"/>
          <a:stretch/>
        </p:blipFill>
        <p:spPr>
          <a:xfrm>
            <a:off x="1185840" y="0"/>
            <a:ext cx="6770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16.1.jpg"/>
          <p:cNvPicPr/>
          <p:nvPr/>
        </p:nvPicPr>
        <p:blipFill>
          <a:blip r:embed="rId1"/>
          <a:stretch/>
        </p:blipFill>
        <p:spPr>
          <a:xfrm>
            <a:off x="650880" y="0"/>
            <a:ext cx="7840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44:56Z</dcterms:created>
  <dc:creator>Administrator</dc:creator>
  <dc:description/>
  <dc:language>en-US</dc:language>
  <cp:lastModifiedBy>Administrator</cp:lastModifiedBy>
  <dcterms:modified xsi:type="dcterms:W3CDTF">2012-04-04T09:45:0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