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9E6-4360-4EB2-B4C4-53C9D1FF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D9D-E0A7-442A-90D7-A2B6C630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4EA-41C3-41F0-AF5A-5EC683AE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B8C-E57B-486A-AB41-225D6287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5F2-F672-4B39-BD58-E80BE439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EAB-47CE-40D7-BC03-B623CC28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893-BE4B-4DAD-BE5F-9732D262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4C4-0903-4958-9E3D-F7B0301C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3F4-7C9E-48DF-B847-7ED7A4CA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C1F-CB7F-4000-85F6-D5A6FD1D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A91D-29D6-4A05-8012-8E68A4E5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7E9-81F5-48F0-8787-50C8062A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C8A9DF-353E-44A0-B652-4A7258BC055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Appendix A.jpg"/>
          <p:cNvPicPr/>
          <p:nvPr/>
        </p:nvPicPr>
        <p:blipFill>
          <a:blip r:embed="rId1"/>
          <a:stretch/>
        </p:blipFill>
        <p:spPr>
          <a:xfrm>
            <a:off x="1968480" y="0"/>
            <a:ext cx="52066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Appendix A(Continued).jpg"/>
          <p:cNvPicPr/>
          <p:nvPr/>
        </p:nvPicPr>
        <p:blipFill>
          <a:blip r:embed="rId1"/>
          <a:stretch/>
        </p:blipFill>
        <p:spPr>
          <a:xfrm>
            <a:off x="1978200" y="0"/>
            <a:ext cx="51861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25:42Z</dcterms:created>
  <dc:creator>Administrator</dc:creator>
  <dc:description/>
  <dc:language>en-US</dc:language>
  <cp:lastModifiedBy>Administrator</cp:lastModifiedBy>
  <dcterms:modified xsi:type="dcterms:W3CDTF">2012-04-04T09:26:21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</vt:r8>
  </property>
</Properties>
</file>