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209-F7A4-4D72-9F45-FAC00A1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72F-6071-40BE-B97C-C36B9B6C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663-D890-4042-8CA9-3F415D3D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FC4-5B3D-421B-8FC5-8DDB9C2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E29-A8E1-45DB-A18D-63011F81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BCC-A822-4DC0-B20E-8391CA5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163-EB6F-4F34-B257-1046FFCB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CBE-07A8-42F8-A804-BE05C8B1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DC5-E546-4EC6-8BD4-020F922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CB7-E2C7-4B2C-8547-063702F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3C8-F9C3-4B30-B1E8-710217A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FF2-19C7-4CE3-A447-7395863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90E92B-A7A3-469A-8D3A-B88EDEE432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Appendix A.jpg"/>
          <p:cNvPicPr/>
          <p:nvPr/>
        </p:nvPicPr>
        <p:blipFill>
          <a:blip r:embed="rId1"/>
          <a:stretch/>
        </p:blipFill>
        <p:spPr>
          <a:xfrm>
            <a:off x="1968480" y="0"/>
            <a:ext cx="5206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Appendix A(Continued).jpg"/>
          <p:cNvPicPr/>
          <p:nvPr/>
        </p:nvPicPr>
        <p:blipFill>
          <a:blip r:embed="rId1"/>
          <a:stretch/>
        </p:blipFill>
        <p:spPr>
          <a:xfrm>
            <a:off x="1978200" y="0"/>
            <a:ext cx="5186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5:42Z</dcterms:created>
  <dc:creator>Administrator</dc:creator>
  <dc:description/>
  <dc:language>en-US</dc:language>
  <cp:lastModifiedBy>Administrator</cp:lastModifiedBy>
  <dcterms:modified xsi:type="dcterms:W3CDTF">2012-04-04T09:26:2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