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24D-1C43-4F4B-8673-FB133176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97F-2333-4BAD-9A07-E7C80324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BBC-F179-486D-9FD6-B3AED31F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64F-9D63-4248-829A-9D111D3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7A1-81D8-44DF-95BD-7021234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77E-F3BE-46AE-A4E0-4B94E8A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325-DA53-4D45-B7E2-FE60373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8D8-1975-423A-A918-EAF09A92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1DC-08CE-47D1-8F6D-37C9FC9B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63E-416F-4A11-92AC-52FD184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CE2-F35E-4FE1-8FD7-EA7373F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A73-590C-47D2-906F-E65557C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BE5-AD33-402A-9363-56EF88478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2.1.jpg"/>
          <p:cNvPicPr/>
          <p:nvPr/>
        </p:nvPicPr>
        <p:blipFill>
          <a:blip r:embed="rId1"/>
          <a:stretch/>
        </p:blipFill>
        <p:spPr>
          <a:xfrm>
            <a:off x="1300320" y="0"/>
            <a:ext cx="65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6:35Z</dcterms:created>
  <dc:creator>Administrator</dc:creator>
  <dc:description/>
  <dc:language>en-US</dc:language>
  <cp:lastModifiedBy>Administrator</cp:lastModifiedBy>
  <dcterms:modified xsi:type="dcterms:W3CDTF">2013-08-05T06:47:18Z</dcterms:modified>
  <cp:revision>1</cp:revision>
  <dc:subject/>
  <dc:title>Slide 1</dc:title>
</cp:coreProperties>
</file>