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426-E890-4298-ADB1-2F3C8CA2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F0B7-702B-4E29-B50E-7689896F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347-82E0-4A50-9D98-33D815F5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778-DEFA-4396-AE6A-349919E9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831B-E61D-4289-A70A-63D78C59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A77B-EEB0-405D-8186-EE78F013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3E7-DDE4-43BC-AF23-1623CDBC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328-04DB-41F8-814F-C1014E2B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8563-DB96-47A0-ABB6-A394E33B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F7FA-D9E5-446C-A7D3-D2391F25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FA0-4B30-46EA-B40B-6AC823C0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837-EBAB-4D80-9BC7-87BECC2B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1E6E-6EC2-4A30-9277-F4D3E5566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Figure 3.1.jpg"/>
          <p:cNvPicPr/>
          <p:nvPr/>
        </p:nvPicPr>
        <p:blipFill>
          <a:blip r:embed="rId1"/>
          <a:stretch/>
        </p:blipFill>
        <p:spPr>
          <a:xfrm>
            <a:off x="655560" y="0"/>
            <a:ext cx="783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4e_Figure 3.2.jpg"/>
          <p:cNvPicPr/>
          <p:nvPr/>
        </p:nvPicPr>
        <p:blipFill>
          <a:blip r:embed="rId1"/>
          <a:stretch/>
        </p:blipFill>
        <p:spPr>
          <a:xfrm>
            <a:off x="2535120" y="0"/>
            <a:ext cx="407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4e_Figure 3.1(Box).jpg"/>
          <p:cNvPicPr/>
          <p:nvPr/>
        </p:nvPicPr>
        <p:blipFill>
          <a:blip r:embed="rId1"/>
          <a:stretch/>
        </p:blipFill>
        <p:spPr>
          <a:xfrm>
            <a:off x="942840" y="0"/>
            <a:ext cx="725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48:21Z</dcterms:created>
  <dc:creator>Administrator</dc:creator>
  <dc:description/>
  <dc:language>en-US</dc:language>
  <cp:lastModifiedBy>Administrator</cp:lastModifiedBy>
  <dcterms:modified xsi:type="dcterms:W3CDTF">2013-08-09T05:43:06Z</dcterms:modified>
  <cp:revision>2</cp:revision>
  <dc:subject/>
  <dc:title>Slide 1</dc:title>
</cp:coreProperties>
</file>