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067-A517-459F-A715-FC4AFD81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808-8BF9-482C-AEE3-21E21E7C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23D-B2F0-46C1-872B-A026DDD1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9DE-D6FB-45A9-83F6-8F325363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707-16EA-4592-9FBE-C1184DD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299-AC24-45C3-95DD-A31CB989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5AF-479F-42B6-8345-E70958FC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69E-7AC0-4CF5-85FD-B6CA6D4D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EB2-F82B-43B7-80D5-75248998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C25-AB7C-40B3-9E42-08CB5FCF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3CA-FCBE-471C-9EA2-9C96481B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865-F775-4676-BB46-95D17F7D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0D5B-973A-40CD-BF84-1C7B338AE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Table 5.1.jpg"/>
          <p:cNvPicPr/>
          <p:nvPr/>
        </p:nvPicPr>
        <p:blipFill>
          <a:blip r:embed="rId1"/>
          <a:stretch/>
        </p:blipFill>
        <p:spPr>
          <a:xfrm>
            <a:off x="2619360" y="0"/>
            <a:ext cx="390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0:53Z</dcterms:created>
  <dc:creator>Administrator</dc:creator>
  <dc:description/>
  <dc:language>en-US</dc:language>
  <cp:lastModifiedBy>Administrator</cp:lastModifiedBy>
  <dcterms:modified xsi:type="dcterms:W3CDTF">2013-08-05T06:51:06Z</dcterms:modified>
  <cp:revision>1</cp:revision>
  <dc:subject/>
  <dc:title>Slide 1</dc:title>
</cp:coreProperties>
</file>