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E6B-C4DD-451C-8180-26953664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4E8-8F55-4CF2-8D73-62818FA1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581-9EF6-475E-A178-14CD0A01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5A2-A71F-4E08-BEA5-CBA5B0B7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34B-1DFF-41F9-B6AC-CAABF47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843-7DE2-4712-9F43-9BE80381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065-2D58-43D7-8D60-DFE55112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279-6F9F-485F-9DF6-159CC12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B85-74C2-4301-AD5D-87244C1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5C7-9647-499B-B119-76CFE69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14C-C13A-4C0C-BBAE-14C706C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1F3-0357-491E-A7EC-EC71E95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E9CC-3E20-40A4-9054-ECFE3F88C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6.1.jpg"/>
          <p:cNvPicPr/>
          <p:nvPr/>
        </p:nvPicPr>
        <p:blipFill>
          <a:blip r:embed="rId1"/>
          <a:stretch/>
        </p:blipFill>
        <p:spPr>
          <a:xfrm>
            <a:off x="2425680" y="0"/>
            <a:ext cx="42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6.2.jpg"/>
          <p:cNvPicPr/>
          <p:nvPr/>
        </p:nvPicPr>
        <p:blipFill>
          <a:blip r:embed="rId1"/>
          <a:stretch/>
        </p:blipFill>
        <p:spPr>
          <a:xfrm>
            <a:off x="2236680" y="0"/>
            <a:ext cx="46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Table 6.1.jpg"/>
          <p:cNvPicPr/>
          <p:nvPr/>
        </p:nvPicPr>
        <p:blipFill>
          <a:blip r:embed="rId1"/>
          <a:stretch/>
        </p:blipFill>
        <p:spPr>
          <a:xfrm>
            <a:off x="1689120" y="0"/>
            <a:ext cx="57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1:28Z</dcterms:created>
  <dc:creator>Administrator</dc:creator>
  <dc:description/>
  <dc:language>en-US</dc:language>
  <cp:lastModifiedBy>Administrator</cp:lastModifiedBy>
  <dcterms:modified xsi:type="dcterms:W3CDTF">2013-08-05T06:51:45Z</dcterms:modified>
  <cp:revision>1</cp:revision>
  <dc:subject/>
  <dc:title>Slide 1</dc:title>
</cp:coreProperties>
</file>