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9F3-6512-49AA-B03F-ACA53660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F84-265E-44CB-8F26-9DBF6781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A27-A43A-4F05-8A73-22D1E572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F86-88BA-435B-9C83-CE2215A8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226-0FBE-4F0A-BAAD-4324201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675-2852-463E-9C61-FC3BB854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4ED-D793-4CFA-9D71-46FD88F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982-3CD2-4799-A542-783CE0A2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4E0-E5AD-4C4F-99BE-F1AD703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31E-6C87-4FEF-83B4-88074BAC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CEB-BB87-4B92-BD39-474ED68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293-D6D6-4F5D-BA41-7BEA6B6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64A-9091-4CFA-BCE0-7F1C2B0D4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7.1.jpg"/>
          <p:cNvPicPr/>
          <p:nvPr/>
        </p:nvPicPr>
        <p:blipFill>
          <a:blip r:embed="rId1"/>
          <a:stretch/>
        </p:blipFill>
        <p:spPr>
          <a:xfrm>
            <a:off x="1555920" y="0"/>
            <a:ext cx="603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7.2.jpg"/>
          <p:cNvPicPr/>
          <p:nvPr/>
        </p:nvPicPr>
        <p:blipFill>
          <a:blip r:embed="rId1"/>
          <a:stretch/>
        </p:blipFill>
        <p:spPr>
          <a:xfrm>
            <a:off x="1536840" y="0"/>
            <a:ext cx="60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2:14Z</dcterms:created>
  <dc:creator>Administrator</dc:creator>
  <dc:description/>
  <dc:language>en-US</dc:language>
  <cp:lastModifiedBy>Administrator</cp:lastModifiedBy>
  <dcterms:modified xsi:type="dcterms:W3CDTF">2013-08-05T06:52:35Z</dcterms:modified>
  <cp:revision>1</cp:revision>
  <dc:subject/>
  <dc:title>Slide 1</dc:title>
</cp:coreProperties>
</file>