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87C-5E7F-46AC-B14C-A289DA2E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0F5-B854-4F38-AFDF-7498519C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515-C7E0-4CCE-92BA-21383DAE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60E-25C6-403A-BF53-B8E42C28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1E6-0EB8-421D-B7A4-65E05610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5B6-1D63-4895-A4EA-FCE57483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909-A1C2-44E2-B676-5B34F8BA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913-37EB-46B9-A6CC-1CEA26BE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FDD-A05D-40C8-9EB9-8D16FF39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56B-D04C-4BCD-A80B-85C5C1AD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3F2-8CFA-486B-AE96-6CD1DB68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8F6-06D0-4DAF-B0A5-FEFC8096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5C6D-F970-499F-A396-9EC6E12E4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8.1.jpg"/>
          <p:cNvPicPr/>
          <p:nvPr/>
        </p:nvPicPr>
        <p:blipFill>
          <a:blip r:embed="rId1"/>
          <a:stretch/>
        </p:blipFill>
        <p:spPr>
          <a:xfrm>
            <a:off x="2481120" y="0"/>
            <a:ext cx="41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Table 8.1.jpg"/>
          <p:cNvPicPr/>
          <p:nvPr/>
        </p:nvPicPr>
        <p:blipFill>
          <a:blip r:embed="rId1"/>
          <a:stretch/>
        </p:blipFill>
        <p:spPr>
          <a:xfrm>
            <a:off x="531720" y="0"/>
            <a:ext cx="807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2:58Z</dcterms:created>
  <dc:creator>Administrator</dc:creator>
  <dc:description/>
  <dc:language>en-US</dc:language>
  <cp:lastModifiedBy>Administrator</cp:lastModifiedBy>
  <dcterms:modified xsi:type="dcterms:W3CDTF">2013-08-05T06:53:14Z</dcterms:modified>
  <cp:revision>1</cp:revision>
  <dc:subject/>
  <dc:title>Slide 1</dc:title>
</cp:coreProperties>
</file>