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B60-9407-4388-A8E2-8234633F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786-EE84-4B63-BA00-E4731E39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72C-B097-44DE-AF07-95079DB9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362-244C-4D03-9EF2-E8C9A522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2B8-281D-4AEF-B38F-F157E067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9DD-1B4D-43ED-8B9B-F9C9210C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041-48C4-4FB8-A389-8D017943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355-8584-48B7-97C2-9B05526E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0B8-66C1-4DFE-92D1-AAE944B2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86C-FDDE-46DB-8201-4CEC61B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5B6-B84C-4081-89D2-7EA3E6F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37D-1DD3-471A-9581-42E49C8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C8DE-187A-45AB-90A2-03CD10491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9.1.jpg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9.2.jpg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Figure 9.3.jpg"/>
          <p:cNvPicPr/>
          <p:nvPr/>
        </p:nvPicPr>
        <p:blipFill>
          <a:blip r:embed="rId1"/>
          <a:stretch/>
        </p:blipFill>
        <p:spPr>
          <a:xfrm>
            <a:off x="246384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4e_Figure 9.4.jpg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3:36Z</dcterms:created>
  <dc:creator>Administrator</dc:creator>
  <dc:description/>
  <dc:language>en-US</dc:language>
  <cp:lastModifiedBy>Administrator</cp:lastModifiedBy>
  <dcterms:modified xsi:type="dcterms:W3CDTF">2013-08-05T06:54:08Z</dcterms:modified>
  <cp:revision>1</cp:revision>
  <dc:subject/>
  <dc:title>Slide 1</dc:title>
</cp:coreProperties>
</file>