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5DC-2272-4F20-B8B7-EE58454F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691-094B-4685-BE57-E7A2D9F7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53F-4237-4CCE-A134-7878FF26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B25-E13E-4955-AC3D-CFAFE5D2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4AA-0CDB-4A71-9243-0D8292B4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8C7-2CFD-4F3A-9162-AE7E42B1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BE30-2C3B-4374-AF22-CBE54A8F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30D-9B73-4309-B126-A072CC40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E8C-F2CC-498E-90DF-067D57E1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71B-54BF-4FCE-9B3B-FA3AC12D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263-B9BD-4B18-996E-AC0A4B1A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4D8-BAA6-4E98-BE13-30F71C2F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0EDD-350B-4AC5-A220-F0FF7898A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Table 12.1.jpg"/>
          <p:cNvPicPr/>
          <p:nvPr/>
        </p:nvPicPr>
        <p:blipFill>
          <a:blip r:embed="rId1"/>
          <a:stretch/>
        </p:blipFill>
        <p:spPr>
          <a:xfrm>
            <a:off x="2236680" y="0"/>
            <a:ext cx="466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Table 12.2.jpg"/>
          <p:cNvPicPr/>
          <p:nvPr/>
        </p:nvPicPr>
        <p:blipFill>
          <a:blip r:embed="rId1"/>
          <a:stretch/>
        </p:blipFill>
        <p:spPr>
          <a:xfrm>
            <a:off x="2790720" y="0"/>
            <a:ext cx="356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4e_Table 12.2(Continued).jpg"/>
          <p:cNvPicPr/>
          <p:nvPr/>
        </p:nvPicPr>
        <p:blipFill>
          <a:blip r:embed="rId1"/>
          <a:stretch/>
        </p:blipFill>
        <p:spPr>
          <a:xfrm>
            <a:off x="3149640" y="0"/>
            <a:ext cx="28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5:52Z</dcterms:created>
  <dc:creator>Administrator</dc:creator>
  <dc:description/>
  <dc:language>en-US</dc:language>
  <cp:lastModifiedBy>Administrator</cp:lastModifiedBy>
  <dcterms:modified xsi:type="dcterms:W3CDTF">2013-08-05T06:57:00Z</dcterms:modified>
  <cp:revision>1</cp:revision>
  <dc:subject/>
  <dc:title>Slide 1</dc:title>
</cp:coreProperties>
</file>