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306-A89B-4C6F-BF17-994F8AFE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E66-A4D8-40D3-81E9-80665AB8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77E-73D3-4988-B64A-D4780B65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C51-5260-4AF4-9A4B-04DF9687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9A6-2785-4797-B5D3-95ED7A17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440-B013-4F9E-9746-1E30E8B3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366-BC88-43DA-BBF3-42FB6E0E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7C6-57FA-4DE6-8FB6-7F6FAABD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DA3-04ED-482F-A40B-6327401E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7E7-2504-4CC3-BA17-EC1795C3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839-F2A6-414D-8B24-7F239C0C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445-5726-4D32-B409-43FD2055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D2D9-4158-48D6-A3C0-D5971D793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14.1.jpg"/>
          <p:cNvPicPr/>
          <p:nvPr/>
        </p:nvPicPr>
        <p:blipFill>
          <a:blip r:embed="rId1"/>
          <a:stretch/>
        </p:blipFill>
        <p:spPr>
          <a:xfrm>
            <a:off x="2441520" y="0"/>
            <a:ext cx="425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7:25Z</dcterms:created>
  <dc:creator>Administrator</dc:creator>
  <dc:description/>
  <dc:language>en-US</dc:language>
  <cp:lastModifiedBy>Administrator</cp:lastModifiedBy>
  <dcterms:modified xsi:type="dcterms:W3CDTF">2013-08-05T06:57:41Z</dcterms:modified>
  <cp:revision>1</cp:revision>
  <dc:subject/>
  <dc:title>Slide 1</dc:title>
</cp:coreProperties>
</file>