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C6E4-583C-4D24-8D81-FB22C2EF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B1C1-46F1-4BD0-ABF8-AEDF07C0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BB4C-7489-4A0A-9593-396A2CA4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9E7C-8B48-4CA2-8126-D15BBD9F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3731-1339-4BD1-BEAF-ABBE5F4E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1E96-5F3E-4356-AB92-78461592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1187-3ACF-450B-8C18-D5E9D08D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F68D-2AA0-4936-909A-3AF15EE3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BB92-E2C6-4A99-B757-26AC63A0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8F4E-1982-491A-982D-EDF9AC8E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1362-AFD8-42EA-8831-AF79AA99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B198-C0AB-4FE3-AF3D-BAE3C298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4138-3D0C-4AA4-9A7C-0AE024135F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4e_Figure 15.1.jpg"/>
          <p:cNvPicPr/>
          <p:nvPr/>
        </p:nvPicPr>
        <p:blipFill>
          <a:blip r:embed="rId1"/>
          <a:stretch/>
        </p:blipFill>
        <p:spPr>
          <a:xfrm>
            <a:off x="871560" y="0"/>
            <a:ext cx="7400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6:57:56Z</dcterms:created>
  <dc:creator>Administrator</dc:creator>
  <dc:description/>
  <dc:language>en-US</dc:language>
  <cp:lastModifiedBy>Administrator</cp:lastModifiedBy>
  <dcterms:modified xsi:type="dcterms:W3CDTF">2013-08-05T06:58:09Z</dcterms:modified>
  <cp:revision>1</cp:revision>
  <dc:subject/>
  <dc:title>Slide 1</dc:title>
</cp:coreProperties>
</file>