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9C8-BF2D-4A58-9991-636ECD34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D26-48BD-4F5C-A682-5A59B30D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07F-9948-4D9D-A7B9-4DBCCCF2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034-3523-45A5-843C-C74B5778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540-C9F7-4033-80DE-C901C8B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A44-B8B8-44F5-B21B-D34C66A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889-6108-484F-8E89-C75A529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104-16D2-46FB-939C-9568CA59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67C-DEE6-473E-B3B9-576DAC7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B83-D0A6-4D9C-BD10-1BD52E7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1B1-5783-4E29-8F91-5643BC0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98D-6086-45AE-B9C0-C898C87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8A3-BEB3-432B-BBF7-5FC5EDDF9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6.1.jpg"/>
          <p:cNvPicPr/>
          <p:nvPr/>
        </p:nvPicPr>
        <p:blipFill>
          <a:blip r:embed="rId1"/>
          <a:stretch/>
        </p:blipFill>
        <p:spPr>
          <a:xfrm>
            <a:off x="1066680" y="0"/>
            <a:ext cx="70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16.1.jpg"/>
          <p:cNvPicPr/>
          <p:nvPr/>
        </p:nvPicPr>
        <p:blipFill>
          <a:blip r:embed="rId1"/>
          <a:stretch/>
        </p:blipFill>
        <p:spPr>
          <a:xfrm>
            <a:off x="592200" y="0"/>
            <a:ext cx="79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8:28Z</dcterms:created>
  <dc:creator>Administrator</dc:creator>
  <dc:description/>
  <dc:language>en-US</dc:language>
  <cp:lastModifiedBy>Administrator</cp:lastModifiedBy>
  <dcterms:modified xsi:type="dcterms:W3CDTF">2013-08-05T06:58:44Z</dcterms:modified>
  <cp:revision>1</cp:revision>
  <dc:subject/>
  <dc:title>Slide 1</dc:title>
</cp:coreProperties>
</file>