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F2B-E2EB-40FB-A513-90A093E0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DA1-D7DA-4E4A-BB8D-C81FB2B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A01-D85F-4DF1-BA9B-7DF31D19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9E3-8910-489A-A7C2-8C4CAF74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840-65AA-4A96-B701-602DD01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291-BBA8-4257-A793-89C4E3EC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DFF-63AF-458C-8FA4-E43D1AB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B96-ABCA-4723-AC9D-9FD91B30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203-3D1B-4E30-B61F-808AAB8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AB6-1207-4491-A091-6583C70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16D-EFC3-489C-9356-5D65763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00E-4217-447C-B7C9-6F33F1E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FFF-627A-4F55-BB6E-627B6853F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(Appendix A).jp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(Appendix A Continued).jp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05:45:12Z</dcterms:created>
  <dc:creator>Administrator</dc:creator>
  <dc:description/>
  <dc:language>en-US</dc:language>
  <cp:lastModifiedBy>Administrator</cp:lastModifiedBy>
  <dcterms:modified xsi:type="dcterms:W3CDTF">2013-08-09T05:46:01Z</dcterms:modified>
  <cp:revision>1</cp:revision>
  <dc:subject/>
  <dc:title>Slide 1</dc:title>
</cp:coreProperties>
</file>