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FEDF-6867-4D0F-8BC2-FF37D7F8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0260-A54E-4EB4-9717-792CCA55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BF12-369A-4402-8314-9F307A91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577B-F57E-4D39-9312-298C0273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7F55-9150-49A0-ACB9-1921DABF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4028-3674-4D75-B39F-D8512DEE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0175-8894-43FF-89AE-7BA65DA1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F58A-DC27-42C6-8960-E34161FD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1C3B-1C3A-43F0-919D-FC4AC1A1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4617-2152-4E33-90DF-C69C113A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9DB6-FE9E-4257-BA36-FCC07229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2A77-93AE-4235-9DC0-0FB6F7EA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C2B3-B887-4DF8-8D1F-89B52B255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avidson_14e_Table 2.1.jpg"/>
          <p:cNvPicPr/>
          <p:nvPr/>
        </p:nvPicPr>
        <p:blipFill>
          <a:blip r:embed="rId1"/>
          <a:stretch/>
        </p:blipFill>
        <p:spPr>
          <a:xfrm>
            <a:off x="1300320" y="0"/>
            <a:ext cx="654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6:46:35Z</dcterms:created>
  <dc:creator>Administrator</dc:creator>
  <dc:description/>
  <dc:language>en-US</dc:language>
  <cp:lastModifiedBy>Administrator</cp:lastModifiedBy>
  <dcterms:modified xsi:type="dcterms:W3CDTF">2013-08-05T06:47:18Z</dcterms:modified>
  <cp:revision>1</cp:revision>
  <dc:subject/>
  <dc:title>Slide 1</dc:title>
</cp:coreProperties>
</file>