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B1D-A64C-4A7C-AEE1-D55A11B1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BB9-3B1F-40F3-AACA-6503A13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A82-F2C9-4AFF-AFB8-4E3FA8F0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AF9-FE10-4AA7-B69F-9DFD00EE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9FF-827B-4773-8896-F859E6D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EF8-D2F7-49CA-8165-FEC5E83A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4F2-06F0-47E9-9902-73585DCE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079-DD1F-4D03-99BA-9FD69DF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72D-DDCE-44E6-8607-7573B569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AEF-6182-4837-93C3-072609B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910-719B-47F4-B99A-AF59726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C34-889C-47C8-A475-8131D26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0CB-B61C-4466-83F2-A8B496EE0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Figure 3.1.jpg"/>
          <p:cNvPicPr/>
          <p:nvPr/>
        </p:nvPicPr>
        <p:blipFill>
          <a:blip r:embed="rId1"/>
          <a:stretch/>
        </p:blipFill>
        <p:spPr>
          <a:xfrm>
            <a:off x="655560" y="0"/>
            <a:ext cx="783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avidson_14e_Figure 3.2.jpg"/>
          <p:cNvPicPr/>
          <p:nvPr/>
        </p:nvPicPr>
        <p:blipFill>
          <a:blip r:embed="rId1"/>
          <a:stretch/>
        </p:blipFill>
        <p:spPr>
          <a:xfrm>
            <a:off x="2535120" y="0"/>
            <a:ext cx="40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vidson_14e_Figure 3.1(Box).jpg"/>
          <p:cNvPicPr/>
          <p:nvPr/>
        </p:nvPicPr>
        <p:blipFill>
          <a:blip r:embed="rId1"/>
          <a:stretch/>
        </p:blipFill>
        <p:spPr>
          <a:xfrm>
            <a:off x="942840" y="0"/>
            <a:ext cx="72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48:21Z</dcterms:created>
  <dc:creator>Administrator</dc:creator>
  <dc:description/>
  <dc:language>en-US</dc:language>
  <cp:lastModifiedBy>Administrator</cp:lastModifiedBy>
  <dcterms:modified xsi:type="dcterms:W3CDTF">2013-08-09T05:43:06Z</dcterms:modified>
  <cp:revision>2</cp:revision>
  <dc:subject/>
  <dc:title>Slide 1</dc:title>
</cp:coreProperties>
</file>