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4F9-3FF2-4B58-9E0C-A917E4E1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8C2-608E-406F-8E72-A9AE865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33B-D162-4E6B-A1B5-F8A18A8B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052-A0A1-4EF9-99E0-850CBE66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391-0FC8-4F7E-8944-83517AC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0C6-040A-4EDE-BE4A-20561BB3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9F5-B09D-409F-A950-80F99315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D79-FFB4-44BC-BF02-F565891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D39-EE47-462E-A840-DA5E1141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0FF-F06A-4D5E-9695-333849F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908-56F8-4DE1-B58E-33D164A9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B76-7661-42CD-9A6E-AC4B916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E8A-5076-4F28-8816-DA010D740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5.1.jpg"/>
          <p:cNvPicPr/>
          <p:nvPr/>
        </p:nvPicPr>
        <p:blipFill>
          <a:blip r:embed="rId1"/>
          <a:stretch/>
        </p:blipFill>
        <p:spPr>
          <a:xfrm>
            <a:off x="2619360" y="0"/>
            <a:ext cx="390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0:53Z</dcterms:created>
  <dc:creator>Administrator</dc:creator>
  <dc:description/>
  <dc:language>en-US</dc:language>
  <cp:lastModifiedBy>Administrator</cp:lastModifiedBy>
  <dcterms:modified xsi:type="dcterms:W3CDTF">2013-08-05T06:51:06Z</dcterms:modified>
  <cp:revision>1</cp:revision>
  <dc:subject/>
  <dc:title>Slide 1</dc:title>
</cp:coreProperties>
</file>