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F93-FA7B-49DC-BC09-75EE823C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DFE-50E6-47A4-9276-F616ADD7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2FA-B5B1-41BB-B56F-986D76C1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E24-07EF-44A0-A384-BCF77B4C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5B2-E7BB-440A-B189-08A2EC1A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64C2-EDF4-4476-A31D-F2276B4C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27A-6542-4BA3-803B-9F24A2C8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F7B-3C3A-46C5-BB0A-C99610DE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E7C0-46B5-4132-B1C3-F9298E52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881-70B7-4C7A-A258-125FD80F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C70-16A9-4F80-BE01-DF1FF22C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E09-E438-460C-9C4B-299E45F8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A23B-10E0-4DEC-B378-7DD3B1BF3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Figure 6.1.jpg"/>
          <p:cNvPicPr/>
          <p:nvPr/>
        </p:nvPicPr>
        <p:blipFill>
          <a:blip r:embed="rId1"/>
          <a:stretch/>
        </p:blipFill>
        <p:spPr>
          <a:xfrm>
            <a:off x="2425680" y="0"/>
            <a:ext cx="429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4e_Figure 6.2.jpg"/>
          <p:cNvPicPr/>
          <p:nvPr/>
        </p:nvPicPr>
        <p:blipFill>
          <a:blip r:embed="rId1"/>
          <a:stretch/>
        </p:blipFill>
        <p:spPr>
          <a:xfrm>
            <a:off x="2236680" y="0"/>
            <a:ext cx="467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4e_Table 6.1.jpg"/>
          <p:cNvPicPr/>
          <p:nvPr/>
        </p:nvPicPr>
        <p:blipFill>
          <a:blip r:embed="rId1"/>
          <a:stretch/>
        </p:blipFill>
        <p:spPr>
          <a:xfrm>
            <a:off x="1689120" y="0"/>
            <a:ext cx="57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51:28Z</dcterms:created>
  <dc:creator>Administrator</dc:creator>
  <dc:description/>
  <dc:language>en-US</dc:language>
  <cp:lastModifiedBy>Administrator</cp:lastModifiedBy>
  <dcterms:modified xsi:type="dcterms:W3CDTF">2013-08-05T06:51:45Z</dcterms:modified>
  <cp:revision>1</cp:revision>
  <dc:subject/>
  <dc:title>Slide 1</dc:title>
</cp:coreProperties>
</file>