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C72-85C0-448E-B54F-10F6C4E5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90D-57F1-423B-A4D1-3A213ADB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5A6-DA7E-4468-94F5-AF220DF2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35F-7E47-40CD-A4E5-B6E9AA25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928-4B18-4BDE-AA12-194F7D44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A5A-4066-4A99-BF43-C1C89923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BF4-A327-4BFA-8EAE-78466846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A88-7E35-4A38-B276-5AC507ED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C7A-BE05-449D-94C0-0E6962FD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B33-BA90-4C00-9C51-7E5B57C2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717-090D-459D-A9F3-C9A6439B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AF6-5901-4634-8208-B44CEB6E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7DFA-CD52-43C4-8010-EEE99688D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Table 7.1.jpg"/>
          <p:cNvPicPr/>
          <p:nvPr/>
        </p:nvPicPr>
        <p:blipFill>
          <a:blip r:embed="rId1"/>
          <a:stretch/>
        </p:blipFill>
        <p:spPr>
          <a:xfrm>
            <a:off x="1555920" y="0"/>
            <a:ext cx="603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Table 7.2.jpg"/>
          <p:cNvPicPr/>
          <p:nvPr/>
        </p:nvPicPr>
        <p:blipFill>
          <a:blip r:embed="rId1"/>
          <a:stretch/>
        </p:blipFill>
        <p:spPr>
          <a:xfrm>
            <a:off x="1536840" y="0"/>
            <a:ext cx="607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2:14Z</dcterms:created>
  <dc:creator>Administrator</dc:creator>
  <dc:description/>
  <dc:language>en-US</dc:language>
  <cp:lastModifiedBy>Administrator</cp:lastModifiedBy>
  <dcterms:modified xsi:type="dcterms:W3CDTF">2013-08-05T06:52:35Z</dcterms:modified>
  <cp:revision>1</cp:revision>
  <dc:subject/>
  <dc:title>Slide 1</dc:title>
</cp:coreProperties>
</file>