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2C9-DBFC-4C42-863E-6844C77B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545-8940-482A-ADEA-4D7D470B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F75-FD74-4224-9E6F-6643EC86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DC9-3EF0-454C-8259-704CBE82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007-7F69-4B4D-8046-BE8A02D8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596-B0B7-4ABA-9DE4-D5710499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54B-D385-420E-A09A-0871E6C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392-E565-40A6-AECA-E6E534A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D30-8F1E-4549-8047-9CC38455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8BD-E5FA-4441-A3DA-98FF530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53F-14C4-4749-A43A-D143C7E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4FC-9CDF-4D3C-9B67-2E0ECBD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F60-187E-4C33-B0C9-42D344CBF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8.1.jpg"/>
          <p:cNvPicPr/>
          <p:nvPr/>
        </p:nvPicPr>
        <p:blipFill>
          <a:blip r:embed="rId1"/>
          <a:stretch/>
        </p:blipFill>
        <p:spPr>
          <a:xfrm>
            <a:off x="2481120" y="0"/>
            <a:ext cx="41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8.1.jpg"/>
          <p:cNvPicPr/>
          <p:nvPr/>
        </p:nvPicPr>
        <p:blipFill>
          <a:blip r:embed="rId1"/>
          <a:stretch/>
        </p:blipFill>
        <p:spPr>
          <a:xfrm>
            <a:off x="531720" y="0"/>
            <a:ext cx="807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2:58Z</dcterms:created>
  <dc:creator>Administrator</dc:creator>
  <dc:description/>
  <dc:language>en-US</dc:language>
  <cp:lastModifiedBy>Administrator</cp:lastModifiedBy>
  <dcterms:modified xsi:type="dcterms:W3CDTF">2013-08-05T06:53:14Z</dcterms:modified>
  <cp:revision>1</cp:revision>
  <dc:subject/>
  <dc:title>Slide 1</dc:title>
</cp:coreProperties>
</file>