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71D2-E368-4A8D-86AE-0028D7816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B31C-6ECC-4EF0-A74C-1B96D798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7EC0-7AAF-4B18-8ADA-125482676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8797-BC69-41D1-BDA9-8E1956482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F721-ABE3-4AF4-A3D0-59ED0204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F303-735C-459A-8D63-4355680C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C52C-4EEB-4D6F-ADFE-EA964EFC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CC90-11B6-4F46-8439-A2B5B8CD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1628-7962-4007-B334-630FBBB4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8517-1FD3-4984-9FCB-399D448E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D1C0-8C43-4E05-BA71-E42BFFD9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6E63-6139-4D89-ADC9-CF1D3EEF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4B18-11E1-4E7B-8CBA-A0F6CB546C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avidson_14e_Figure 9.1.jpg"/>
          <p:cNvPicPr/>
          <p:nvPr/>
        </p:nvPicPr>
        <p:blipFill>
          <a:blip r:embed="rId1"/>
          <a:stretch/>
        </p:blipFill>
        <p:spPr>
          <a:xfrm>
            <a:off x="0" y="22392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avidson_14e_Figure 9.2.jpg"/>
          <p:cNvPicPr/>
          <p:nvPr/>
        </p:nvPicPr>
        <p:blipFill>
          <a:blip r:embed="rId1"/>
          <a:stretch/>
        </p:blipFill>
        <p:spPr>
          <a:xfrm>
            <a:off x="0" y="372960"/>
            <a:ext cx="9144000" cy="61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avidson_14e_Figure 9.3.jpg"/>
          <p:cNvPicPr/>
          <p:nvPr/>
        </p:nvPicPr>
        <p:blipFill>
          <a:blip r:embed="rId1"/>
          <a:stretch/>
        </p:blipFill>
        <p:spPr>
          <a:xfrm>
            <a:off x="2463840" y="0"/>
            <a:ext cx="421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avidson_14e_Figure 9.4.jpg"/>
          <p:cNvPicPr/>
          <p:nvPr/>
        </p:nvPicPr>
        <p:blipFill>
          <a:blip r:embed="rId1"/>
          <a:stretch/>
        </p:blipFill>
        <p:spPr>
          <a:xfrm>
            <a:off x="0" y="54000"/>
            <a:ext cx="9144000" cy="67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06:53:36Z</dcterms:created>
  <dc:creator>Administrator</dc:creator>
  <dc:description/>
  <dc:language>en-US</dc:language>
  <cp:lastModifiedBy>Administrator</cp:lastModifiedBy>
  <dcterms:modified xsi:type="dcterms:W3CDTF">2013-08-05T06:54:08Z</dcterms:modified>
  <cp:revision>1</cp:revision>
  <dc:subject/>
  <dc:title>Slide 1</dc:title>
</cp:coreProperties>
</file>