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13B5-76BC-4D01-AD5C-7D2E932F7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2F2D-2E04-49E2-864A-3FE76C308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9ABF-3E91-4B6C-865A-3F2DF2A68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02F1-4633-4D6B-801C-8FA4746A5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A443-F56B-4F94-A0E7-432A4647E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051E-85C5-4B99-9F8D-07E69FF74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5EF6-94FD-462A-A441-31FBA7CB6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B8CA-FB45-47CD-AA96-EDDBB6637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B478-25D7-4BCC-803D-01E6BFAE2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4C15-0D0F-44BB-9044-B02CFABA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F55E-B1FC-4E52-A146-438D86C0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95C4-8B91-4825-8A71-01830212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4AA8B-4226-4AFF-8E8B-7B494BFB10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Davidson_14e_Table 12.1.jpg"/>
          <p:cNvPicPr/>
          <p:nvPr/>
        </p:nvPicPr>
        <p:blipFill>
          <a:blip r:embed="rId1"/>
          <a:stretch/>
        </p:blipFill>
        <p:spPr>
          <a:xfrm>
            <a:off x="2236680" y="0"/>
            <a:ext cx="4668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Davidson_14e_Table 12.2.jpg"/>
          <p:cNvPicPr/>
          <p:nvPr/>
        </p:nvPicPr>
        <p:blipFill>
          <a:blip r:embed="rId1"/>
          <a:stretch/>
        </p:blipFill>
        <p:spPr>
          <a:xfrm>
            <a:off x="2790720" y="0"/>
            <a:ext cx="3562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Davidson_14e_Table 12.2(Continued).jpg"/>
          <p:cNvPicPr/>
          <p:nvPr/>
        </p:nvPicPr>
        <p:blipFill>
          <a:blip r:embed="rId1"/>
          <a:stretch/>
        </p:blipFill>
        <p:spPr>
          <a:xfrm>
            <a:off x="3149640" y="0"/>
            <a:ext cx="284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5T06:55:52Z</dcterms:created>
  <dc:creator>Administrator</dc:creator>
  <dc:description/>
  <dc:language>en-US</dc:language>
  <cp:lastModifiedBy>Administrator</cp:lastModifiedBy>
  <dcterms:modified xsi:type="dcterms:W3CDTF">2013-08-05T06:57:00Z</dcterms:modified>
  <cp:revision>1</cp:revision>
  <dc:subject/>
  <dc:title>Slide 1</dc:title>
</cp:coreProperties>
</file>