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F928-B039-4531-BCBB-72A63C61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70E-826E-4250-AA3B-A74FAAF4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939F-70C2-40AD-8E90-DF6CD3ED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B6C-DED5-46B1-BE2D-28B86B9D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6E6A-D32C-42E7-9EB2-818F62CC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71A-DA4A-48D4-8FDA-40194013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5D39-46F0-4277-922B-8C9CB546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26D5-1C0E-420D-905D-E12CADD6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0CE1-9CC2-4F49-B3CA-FFBA79E7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3A4-1BF7-4981-902B-27F14E59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F1C-1D34-4F7D-9801-B31879BC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241C-117E-41EC-91C9-C4BADE58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1EA1-C04D-4F13-A93E-26592B0BA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Figure 14.1.jpg"/>
          <p:cNvPicPr/>
          <p:nvPr/>
        </p:nvPicPr>
        <p:blipFill>
          <a:blip r:embed="rId1"/>
          <a:stretch/>
        </p:blipFill>
        <p:spPr>
          <a:xfrm>
            <a:off x="2441520" y="0"/>
            <a:ext cx="425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57:25Z</dcterms:created>
  <dc:creator>Administrator</dc:creator>
  <dc:description/>
  <dc:language>en-US</dc:language>
  <cp:lastModifiedBy>Administrator</cp:lastModifiedBy>
  <dcterms:modified xsi:type="dcterms:W3CDTF">2013-08-05T06:57:41Z</dcterms:modified>
  <cp:revision>1</cp:revision>
  <dc:subject/>
  <dc:title>Slide 1</dc:title>
</cp:coreProperties>
</file>