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953-D8D5-4374-9DFC-D093C2D7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56F-478C-4463-ADF5-A590695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9A6-FA72-4E77-8277-4234F182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7BE-8F88-4B52-8612-F669E721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902-339D-4149-87A9-EFEB58C6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FF8-4F32-4D95-AD4E-336A6C85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E02-D15F-4514-BDED-E661F875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2F6-A336-41F2-8808-5CBC2356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C39-C068-4049-BA44-3C28D90A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237-52E9-40B0-9F34-3DBC803B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0CC-27CE-4C39-8DDC-547B477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9A9-DAF8-4A91-8344-E0F602D3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CE67-BF79-49F9-8286-4A7AF7811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15.1.jpg"/>
          <p:cNvPicPr/>
          <p:nvPr/>
        </p:nvPicPr>
        <p:blipFill>
          <a:blip r:embed="rId1"/>
          <a:stretch/>
        </p:blipFill>
        <p:spPr>
          <a:xfrm>
            <a:off x="871560" y="0"/>
            <a:ext cx="74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7:56Z</dcterms:created>
  <dc:creator>Administrator</dc:creator>
  <dc:description/>
  <dc:language>en-US</dc:language>
  <cp:lastModifiedBy>Administrator</cp:lastModifiedBy>
  <dcterms:modified xsi:type="dcterms:W3CDTF">2013-08-05T06:58:09Z</dcterms:modified>
  <cp:revision>1</cp:revision>
  <dc:subject/>
  <dc:title>Slide 1</dc:title>
</cp:coreProperties>
</file>