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2D3-94E2-4C90-8712-8EE7C8F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2CB-0C8E-4A8F-BDE1-8ADA2B6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DF7-1C7C-4960-8977-69BE5F75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985-C30A-481C-8128-506E38CA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019-63A9-41B2-ADB6-DF6CC7C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656-F58B-4806-998C-E0F8BB4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D0D-20CC-44A9-AF71-530BB445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096-0DFA-4DD4-B3D8-5D376386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D6-F092-422F-B18C-621047A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84A-85E9-487C-A0A3-E71E745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899-A1A2-48BB-AFB3-4DE48B5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D0A-3637-44AC-9035-D54400E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5C5-3FF8-4CD0-BC97-8754F39C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6.1.jpg"/>
          <p:cNvPicPr/>
          <p:nvPr/>
        </p:nvPicPr>
        <p:blipFill>
          <a:blip r:embed="rId1"/>
          <a:stretch/>
        </p:blipFill>
        <p:spPr>
          <a:xfrm>
            <a:off x="1066680" y="0"/>
            <a:ext cx="70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16.1.jpg"/>
          <p:cNvPicPr/>
          <p:nvPr/>
        </p:nvPicPr>
        <p:blipFill>
          <a:blip r:embed="rId1"/>
          <a:stretch/>
        </p:blipFill>
        <p:spPr>
          <a:xfrm>
            <a:off x="592200" y="0"/>
            <a:ext cx="79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8:28Z</dcterms:created>
  <dc:creator>Administrator</dc:creator>
  <dc:description/>
  <dc:language>en-US</dc:language>
  <cp:lastModifiedBy>Administrator</cp:lastModifiedBy>
  <dcterms:modified xsi:type="dcterms:W3CDTF">2013-08-05T06:58:44Z</dcterms:modified>
  <cp:revision>1</cp:revision>
  <dc:subject/>
  <dc:title>Slide 1</dc:title>
</cp:coreProperties>
</file>