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845-A18E-48FB-ADF5-F2470065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591-927B-444A-B15C-D48448BF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45C-72E1-47D7-97F5-3D9D2C5E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2D6-B5F4-47A8-A5C8-BECC669E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E44-143A-424D-8CE5-6EAB2042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963-6964-4D2A-BCD5-A6D1A3F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1C7-15C6-43A4-933C-59EE785D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163-71C2-40ED-821E-CDA2F12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D92-343E-43A1-8EA9-D631CAEE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88B-4CFE-4E34-BBA7-DABB2267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3FF-BB9D-4E70-9663-D9CD050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B83-FF32-4A5F-9218-99118013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9AEE-EE1C-44F1-BD76-02F98C1A8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(Appendix A).jpg"/>
          <p:cNvPicPr/>
          <p:nvPr/>
        </p:nvPicPr>
        <p:blipFill>
          <a:blip r:embed="rId1"/>
          <a:stretch/>
        </p:blipFill>
        <p:spPr>
          <a:xfrm>
            <a:off x="2346480" y="0"/>
            <a:ext cx="445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(Appendix A Continued).jpg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05:45:12Z</dcterms:created>
  <dc:creator>Administrator</dc:creator>
  <dc:description/>
  <dc:language>en-US</dc:language>
  <cp:lastModifiedBy>Administrator</cp:lastModifiedBy>
  <dcterms:modified xsi:type="dcterms:W3CDTF">2013-08-09T05:46:01Z</dcterms:modified>
  <cp:revision>1</cp:revision>
  <dc:subject/>
  <dc:title>Slide 1</dc:title>
</cp:coreProperties>
</file>