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D99-F9EC-4E72-822E-9F553B8A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D32-39F1-48E6-8202-C3C9E0FD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D98-F085-4CD2-8E0B-2ACC071B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41A-5839-47D6-9AF0-5B760C16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B00-5C69-43FC-A53E-0166EC7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987-014A-4D09-A7A0-B327AFA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43E-7D16-489E-81D6-B9A7E78E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F65-02A0-4086-9226-AEFEE299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BB8-AD06-4BD5-8932-2473267B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8ED-7B89-46E9-8137-D916B76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18C-7215-4597-823C-A39A69A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627-25B2-4D0E-9F29-BC2F537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63B-3D9E-469C-93CC-5B585883F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odd_10e_Table 1-1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odd_10e_Table 1-2.jpg"/>
          <p:cNvPicPr/>
          <p:nvPr/>
        </p:nvPicPr>
        <p:blipFill>
          <a:blip r:embed="rId1"/>
          <a:stretch/>
        </p:blipFill>
        <p:spPr>
          <a:xfrm>
            <a:off x="0" y="17460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odd_10e_Table 1-3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21:18Z</dcterms:created>
  <dc:creator>C and M</dc:creator>
  <dc:description/>
  <dc:language>en-US</dc:language>
  <cp:lastModifiedBy>C and M</cp:lastModifiedBy>
  <dcterms:modified xsi:type="dcterms:W3CDTF">2012-12-18T08:21:57Z</dcterms:modified>
  <cp:revision>1</cp:revision>
  <dc:subject/>
  <dc:title>Slide 1</dc:title>
</cp:coreProperties>
</file>