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6E3-AA78-489A-939E-198EAE87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4F3-0158-4088-8A5C-63DCDAD5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FEF-A029-4913-9064-83473A1D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9DA-6EDA-4973-ADD5-026C017D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F9B-DF40-45A1-9100-F475F25E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DE4-A678-4202-90DF-7B7ADDC9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8A4-CD26-4720-AC7C-0BDF3EBA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5BB-036E-479D-A267-6F8AEF6A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D67-1B42-461F-8AD6-098805F7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07E-5701-43B3-A59B-C9EA744F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8E0-8E33-4E41-9F15-300B7B55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183-24D2-4639-B120-AB4FC43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3935-507C-459C-9E6C-09405E5D5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Figure 3-1.jpg"/>
          <p:cNvPicPr/>
          <p:nvPr/>
        </p:nvPicPr>
        <p:blipFill>
          <a:blip r:embed="rId1"/>
          <a:stretch/>
        </p:blipFill>
        <p:spPr>
          <a:xfrm>
            <a:off x="1217520" y="0"/>
            <a:ext cx="670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Figure 3-2.jpg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Figure 3-3.jpg"/>
          <p:cNvPicPr/>
          <p:nvPr/>
        </p:nvPicPr>
        <p:blipFill>
          <a:blip r:embed="rId1"/>
          <a:stretch/>
        </p:blipFill>
        <p:spPr>
          <a:xfrm>
            <a:off x="330120" y="0"/>
            <a:ext cx="848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odd_10e_Figure 3-4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odd_10e_Figure 3-5.jpg"/>
          <p:cNvPicPr/>
          <p:nvPr/>
        </p:nvPicPr>
        <p:blipFill>
          <a:blip r:embed="rId1"/>
          <a:stretch/>
        </p:blipFill>
        <p:spPr>
          <a:xfrm>
            <a:off x="1065240" y="0"/>
            <a:ext cx="70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odd_10e_Figure 3-6.jpg"/>
          <p:cNvPicPr/>
          <p:nvPr/>
        </p:nvPicPr>
        <p:blipFill>
          <a:blip r:embed="rId1"/>
          <a:stretch/>
        </p:blipFill>
        <p:spPr>
          <a:xfrm>
            <a:off x="1630440" y="0"/>
            <a:ext cx="588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19:00Z</dcterms:created>
  <dc:creator>C and M</dc:creator>
  <dc:description/>
  <dc:language>en-US</dc:language>
  <cp:lastModifiedBy>C and M</cp:lastModifiedBy>
  <dcterms:modified xsi:type="dcterms:W3CDTF">2012-12-18T08:20:25Z</dcterms:modified>
  <cp:revision>1</cp:revision>
  <dc:subject/>
  <dc:title>Slide 1</dc:title>
</cp:coreProperties>
</file>