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359-FA48-4BC7-90D8-4CCA52A2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FD1-ED54-4D59-9DCD-4236702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C6A-028E-49E1-B316-A47D3ECF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056-D3A6-400B-8D7D-0BA59C2E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248-DF7C-41C7-8E42-D6E3BB13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91A-6ACA-4796-8034-C62BBCF0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EC0-099B-4368-83FC-EE79A396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304-CCBA-4A0A-9EA1-6901FCE6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0A2-8CF3-4523-9942-F80AA757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FA1-14A1-4B2D-B5F2-741A601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497-DAA6-4CAD-9C07-8A15FCE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034-F049-40DE-A6F8-7817DF0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E5CF-D810-4749-9205-FE1A2B926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7-1.jpg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7-2.jpg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7-3.jpg"/>
          <p:cNvPicPr/>
          <p:nvPr/>
        </p:nvPicPr>
        <p:blipFill>
          <a:blip r:embed="rId1"/>
          <a:stretch/>
        </p:blipFill>
        <p:spPr>
          <a:xfrm>
            <a:off x="293760" y="0"/>
            <a:ext cx="855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Figure 7-4.jpg"/>
          <p:cNvPicPr/>
          <p:nvPr/>
        </p:nvPicPr>
        <p:blipFill>
          <a:blip r:embed="rId1"/>
          <a:stretch/>
        </p:blipFill>
        <p:spPr>
          <a:xfrm>
            <a:off x="54000" y="0"/>
            <a:ext cx="903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Figure 7-5.jpg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27:23Z</dcterms:created>
  <dc:creator>C and M</dc:creator>
  <dc:description/>
  <dc:language>en-US</dc:language>
  <cp:lastModifiedBy>C and M</cp:lastModifiedBy>
  <dcterms:modified xsi:type="dcterms:W3CDTF">2012-12-18T08:28:01Z</dcterms:modified>
  <cp:revision>1</cp:revision>
  <dc:subject/>
  <dc:title>Slide 1</dc:title>
</cp:coreProperties>
</file>