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55EE-CE39-4BCE-B593-F11162B45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A572-6EF4-4120-8426-55371909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CB74-99C3-485B-AF64-0FDC72317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9C36-6F43-41CD-9F94-BBB83F676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2DAE-99C2-455F-9E08-5C0AA1FC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8286-05A6-4F8E-AB28-980EEC77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2891-00F6-4684-AA8A-73088507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78D1-0A7A-4EC2-A869-C948B75F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AF0B-AEB5-435B-87ED-E5A1B574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CE6A-3647-4D74-B264-32F3B09D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6FB3-36CF-4234-9F53-70C23CA3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77EC-48C7-42FF-98F3-2266490B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EE0B-2245-439D-900D-BF9282841C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odd_10e_Figure 8-1.jpg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odd_10e_Figure 8-2.jpg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odd_10e_Figure 8-3.jpg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08:28:32Z</dcterms:created>
  <dc:creator>C and M</dc:creator>
  <dc:description/>
  <dc:language>en-US</dc:language>
  <cp:lastModifiedBy>C and M</cp:lastModifiedBy>
  <dcterms:modified xsi:type="dcterms:W3CDTF">2012-12-18T08:28:51Z</dcterms:modified>
  <cp:revision>1</cp:revision>
  <dc:subject/>
  <dc:title>Slide 1</dc:title>
</cp:coreProperties>
</file>