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009-B56E-41DF-B347-C529CD75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AE4-74FA-4E13-9EB6-B0812BF1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E78-8E79-4776-9A57-355982CF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7D9-2FAF-4CE9-95CB-A7318F19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9CD-21A9-407D-99B5-F0D5C0F4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D91-7F7F-4CE1-9DCE-AB41C60A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AED-980E-4423-9D48-8259A043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D1B-5E2C-4CC9-94D6-EC25631B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D96-3F4C-4092-A94D-11EDD798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673-FAA4-4277-82D5-2AB9463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5C3-435B-466E-9E00-70F4CFFB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608-5C7C-4D2C-9128-89F82A3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66F-21DE-408D-A4FD-F9CA0B95A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9-1.jpg"/>
          <p:cNvPicPr/>
          <p:nvPr/>
        </p:nvPicPr>
        <p:blipFill>
          <a:blip r:embed="rId1"/>
          <a:stretch/>
        </p:blipFill>
        <p:spPr>
          <a:xfrm>
            <a:off x="720720" y="0"/>
            <a:ext cx="770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9-2.jpg"/>
          <p:cNvPicPr/>
          <p:nvPr/>
        </p:nvPicPr>
        <p:blipFill>
          <a:blip r:embed="rId1"/>
          <a:stretch/>
        </p:blipFill>
        <p:spPr>
          <a:xfrm>
            <a:off x="399960" y="0"/>
            <a:ext cx="834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9-3.jpg"/>
          <p:cNvPicPr/>
          <p:nvPr/>
        </p:nvPicPr>
        <p:blipFill>
          <a:blip r:embed="rId1"/>
          <a:stretch/>
        </p:blipFill>
        <p:spPr>
          <a:xfrm>
            <a:off x="371520" y="0"/>
            <a:ext cx="84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Figure 9-4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Figure 9-5.jpg"/>
          <p:cNvPicPr/>
          <p:nvPr/>
        </p:nvPicPr>
        <p:blipFill>
          <a:blip r:embed="rId1"/>
          <a:stretch/>
        </p:blipFill>
        <p:spPr>
          <a:xfrm>
            <a:off x="563400" y="0"/>
            <a:ext cx="80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29:39Z</dcterms:created>
  <dc:creator>C and M</dc:creator>
  <dc:description/>
  <dc:language>en-US</dc:language>
  <cp:lastModifiedBy>C and M</cp:lastModifiedBy>
  <dcterms:modified xsi:type="dcterms:W3CDTF">2012-12-18T08:30:04Z</dcterms:modified>
  <cp:revision>1</cp:revision>
  <dc:subject/>
  <dc:title>Slide 1</dc:title>
</cp:coreProperties>
</file>