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9BB5-9049-407A-AC8F-BD8427828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0CC1-41EF-4587-AC3B-8B0E92605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AFFB-03FF-444E-A8C7-1B71DBCAA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6ECF-C74C-4A41-89F0-C0FD1E305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E851-93E9-434D-AC7C-D94A13604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EE60-86A3-47B4-A996-13A4CA66A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DB4E-CE76-4601-A3D7-E8E08A944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18DD-F30E-4955-8C99-6F129709D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8478-63CE-4EAE-AF38-1F4352B3A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8133-56A0-4C32-9521-EADE8A40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F919-75B2-4D2D-B692-26F5E4AE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21FE-61C6-4127-B75A-824C65DA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4BE5D-2F30-45AF-9E65-3CF778CAA6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Dodd_10e_Figure 10-1.jpg"/>
          <p:cNvPicPr/>
          <p:nvPr/>
        </p:nvPicPr>
        <p:blipFill>
          <a:blip r:embed="rId1"/>
          <a:stretch/>
        </p:blipFill>
        <p:spPr>
          <a:xfrm>
            <a:off x="0" y="55440"/>
            <a:ext cx="9144000" cy="67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Dodd_10e_Table 10-1.jpg"/>
          <p:cNvPicPr/>
          <p:nvPr/>
        </p:nvPicPr>
        <p:blipFill>
          <a:blip r:embed="rId1"/>
          <a:stretch/>
        </p:blipFill>
        <p:spPr>
          <a:xfrm>
            <a:off x="0" y="1392120"/>
            <a:ext cx="91440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Dodd_10e_Table 10-2.jpg"/>
          <p:cNvPicPr/>
          <p:nvPr/>
        </p:nvPicPr>
        <p:blipFill>
          <a:blip r:embed="rId1"/>
          <a:stretch/>
        </p:blipFill>
        <p:spPr>
          <a:xfrm>
            <a:off x="2327400" y="0"/>
            <a:ext cx="4487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8T08:30:38Z</dcterms:created>
  <dc:creator>C and M</dc:creator>
  <dc:description/>
  <dc:language>en-US</dc:language>
  <cp:lastModifiedBy>C and M</cp:lastModifiedBy>
  <dcterms:modified xsi:type="dcterms:W3CDTF">2012-12-18T08:31:05Z</dcterms:modified>
  <cp:revision>1</cp:revision>
  <dc:subject/>
  <dc:title>Slide 1</dc:title>
</cp:coreProperties>
</file>