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6BE-73C9-456B-9E33-C6184ED2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08B-AFE7-4183-B98B-DB26B76F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F2B-EC7F-42FD-8CBA-FAE82FED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485-EDCF-42FF-9529-E3D978E5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F73-F137-4971-AE25-467BEDA0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2CA-0AF8-40E3-896F-87892DB3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219-524B-4374-B7EB-76FF76F3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A5C-117E-485C-95A4-32D44907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9E8-8742-4B93-9A44-907D9974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D57-B94A-40A0-B4B1-E3868AB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26D-FE44-40C2-B472-D3E7E52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9E8-D9B3-4B12-82DA-7D22A1B4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86CB-C9EE-4CA8-9A2C-8A26A092E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13-1.jpg"/>
          <p:cNvPicPr/>
          <p:nvPr/>
        </p:nvPicPr>
        <p:blipFill>
          <a:blip r:embed="rId1"/>
          <a:stretch/>
        </p:blipFill>
        <p:spPr>
          <a:xfrm>
            <a:off x="44280" y="0"/>
            <a:ext cx="90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32:39Z</dcterms:created>
  <dc:creator>C and M</dc:creator>
  <dc:description/>
  <dc:language>en-US</dc:language>
  <cp:lastModifiedBy>C and M</cp:lastModifiedBy>
  <dcterms:modified xsi:type="dcterms:W3CDTF">2012-12-18T08:33:06Z</dcterms:modified>
  <cp:revision>1</cp:revision>
  <dc:subject/>
  <dc:title>Slide 1</dc:title>
</cp:coreProperties>
</file>