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DA7-BA9E-40F2-AF5C-8FFEBE2B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860-BCAD-4F29-8A51-F9ED3F36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C96-6B3C-4889-A31F-97B2106C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7D4-8B96-40C4-99E2-032F88F3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DA8-EAE6-49E2-A367-DF938C4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7B3-8326-43E0-8151-074901D5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ED4-6364-45D5-A969-906BE1E7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F3A-41F0-4AC5-89C8-1BF392FA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80F-8D00-4227-8394-C292E60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82C-7D3B-4F64-8429-AF8C45D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1FD-B163-4A7F-8403-D5B5F31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327-8E3C-4745-9C3F-525E800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6DD-686E-47FB-8832-A2B00C599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5-1.jpg"/>
          <p:cNvPicPr/>
          <p:nvPr/>
        </p:nvPicPr>
        <p:blipFill>
          <a:blip r:embed="rId1"/>
          <a:stretch/>
        </p:blipFill>
        <p:spPr>
          <a:xfrm>
            <a:off x="0" y="1517760"/>
            <a:ext cx="91440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15-2.jpg"/>
          <p:cNvPicPr/>
          <p:nvPr/>
        </p:nvPicPr>
        <p:blipFill>
          <a:blip r:embed="rId1"/>
          <a:stretch/>
        </p:blipFill>
        <p:spPr>
          <a:xfrm>
            <a:off x="103500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15-3.jpg"/>
          <p:cNvPicPr/>
          <p:nvPr/>
        </p:nvPicPr>
        <p:blipFill>
          <a:blip r:embed="rId1"/>
          <a:stretch/>
        </p:blipFill>
        <p:spPr>
          <a:xfrm>
            <a:off x="13399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Table 15-1.jpg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Table 15-2.jpg"/>
          <p:cNvPicPr/>
          <p:nvPr/>
        </p:nvPicPr>
        <p:blipFill>
          <a:blip r:embed="rId1"/>
          <a:stretch/>
        </p:blipFill>
        <p:spPr>
          <a:xfrm>
            <a:off x="1152360" y="0"/>
            <a:ext cx="683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Table 15-3.jpg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3:48Z</dcterms:created>
  <dc:creator>C and M</dc:creator>
  <dc:description/>
  <dc:language>en-US</dc:language>
  <cp:lastModifiedBy>C and M</cp:lastModifiedBy>
  <dcterms:modified xsi:type="dcterms:W3CDTF">2012-12-18T08:34:47Z</dcterms:modified>
  <cp:revision>1</cp:revision>
  <dc:subject/>
  <dc:title>Slide 1</dc:title>
</cp:coreProperties>
</file>