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E17-637F-4714-914D-FE5146CE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CD0-FAF0-4012-B47F-AEE81FD7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BE5-C922-48B1-9309-64DAE586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EF7F-8F47-4098-B88B-B6F664DC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AD2-87D7-4972-9156-2BC10340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ADF-CD64-4555-A62F-6AAD48B9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BAC4-C14E-466B-A5F8-26AE3510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5D4-0394-4DDB-8FCC-75C24AFD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C0E-F3C3-47D3-82C9-A202A0B3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694-87A2-44E4-9357-E4491C31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271-A4AB-4828-9806-9A5D35AD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E5E-CD4C-411E-9DA5-2CE41789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369E-C1D3-4BF7-843E-481C6C4CB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odd_10e_Figure 18-1.jpg"/>
          <p:cNvPicPr/>
          <p:nvPr/>
        </p:nvPicPr>
        <p:blipFill>
          <a:blip r:embed="rId1"/>
          <a:stretch/>
        </p:blipFill>
        <p:spPr>
          <a:xfrm>
            <a:off x="0" y="581040"/>
            <a:ext cx="91440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odd_10e_Table 18-1.jpg"/>
          <p:cNvPicPr/>
          <p:nvPr/>
        </p:nvPicPr>
        <p:blipFill>
          <a:blip r:embed="rId1"/>
          <a:stretch/>
        </p:blipFill>
        <p:spPr>
          <a:xfrm>
            <a:off x="2003400" y="0"/>
            <a:ext cx="513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odd_10e_Table 18-2.jpg"/>
          <p:cNvPicPr/>
          <p:nvPr/>
        </p:nvPicPr>
        <p:blipFill>
          <a:blip r:embed="rId1"/>
          <a:stretch/>
        </p:blipFill>
        <p:spPr>
          <a:xfrm>
            <a:off x="1766880" y="0"/>
            <a:ext cx="560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8:36:44Z</dcterms:created>
  <dc:creator>C and M</dc:creator>
  <dc:description/>
  <dc:language>en-US</dc:language>
  <cp:lastModifiedBy>C and M</cp:lastModifiedBy>
  <dcterms:modified xsi:type="dcterms:W3CDTF">2012-12-18T08:37:02Z</dcterms:modified>
  <cp:revision>1</cp:revision>
  <dc:subject/>
  <dc:title>Slide 1</dc:title>
</cp:coreProperties>
</file>