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485-8940-4A39-8AF0-E7903B1C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133-44AE-469F-B1BA-9BAD2D08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8DB-75F4-404C-B0C4-FED510E6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F0D-E2B4-4219-8BC2-A6E70948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6D8-7410-4C92-86C1-4D72FEF1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E4E-1551-4C9F-99F8-39D9F4C8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3EC-232A-43AD-BDEE-584FC0E9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1F7-FA94-47B4-8668-53C9E81F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A29-9D12-44CA-8A3F-42B925B4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F44-C130-48AA-B7D7-D1E88842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4B7-DB95-45B3-89AD-68F6A30F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205-C2EA-4E3A-9F57-0553AD8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A34-F60F-476D-A292-3408A818C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Appendix Unnumbered Table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2:03:00Z</dcterms:created>
  <dc:creator>C and M</dc:creator>
  <dc:description/>
  <dc:language>en-US</dc:language>
  <cp:lastModifiedBy>C and M</cp:lastModifiedBy>
  <dcterms:modified xsi:type="dcterms:W3CDTF">2012-12-18T12:03:44Z</dcterms:modified>
  <cp:revision>1</cp:revision>
  <dc:subject/>
  <dc:title>Slide 1</dc:title>
</cp:coreProperties>
</file>