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0E1-18B3-4E06-AD8B-2D49B6D1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32D-BA4B-4259-B880-AD1D2078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726-38B4-4B54-88C7-E468F563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190-66AB-4CD0-860A-A57796B5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FAD-4163-4B04-8E23-C54BB54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F94-61AF-4C13-902A-30B59C4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368-E017-4CE9-AFB7-F947A2FE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68D-EC51-4580-BFA0-4B6A33A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78E-8BE3-477E-93EF-7C0E2421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B2F-9AAE-4491-83D9-231DB5F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CA3-6FBD-4138-939A-6EBE4F5D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71C-E3D5-4B3D-99D0-E6295EB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E6D7-9517-424F-8343-3704E277A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10e_Box 1.1.jpg"/>
          <p:cNvPicPr/>
          <p:nvPr/>
        </p:nvPicPr>
        <p:blipFill>
          <a:blip r:embed="rId1"/>
          <a:stretch/>
        </p:blipFill>
        <p:spPr>
          <a:xfrm>
            <a:off x="2082960" y="0"/>
            <a:ext cx="497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10e_Box 1.1(Continued).jpg"/>
          <p:cNvPicPr/>
          <p:nvPr/>
        </p:nvPicPr>
        <p:blipFill>
          <a:blip r:embed="rId1"/>
          <a:stretch/>
        </p:blipFill>
        <p:spPr>
          <a:xfrm>
            <a:off x="0" y="631800"/>
            <a:ext cx="9144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10e_Box 1.2.jpg"/>
          <p:cNvPicPr/>
          <p:nvPr/>
        </p:nvPicPr>
        <p:blipFill>
          <a:blip r:embed="rId1"/>
          <a:stretch/>
        </p:blipFill>
        <p:spPr>
          <a:xfrm>
            <a:off x="2508120" y="0"/>
            <a:ext cx="412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10e_Box 1.3.jpg"/>
          <p:cNvPicPr/>
          <p:nvPr/>
        </p:nvPicPr>
        <p:blipFill>
          <a:blip r:embed="rId1"/>
          <a:stretch/>
        </p:blipFill>
        <p:spPr>
          <a:xfrm>
            <a:off x="22050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10e_Figure 1.1.jpg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10e_Table 1.1.jpg"/>
          <p:cNvPicPr/>
          <p:nvPr/>
        </p:nvPicPr>
        <p:blipFill>
          <a:blip r:embed="rId1"/>
          <a:stretch/>
        </p:blipFill>
        <p:spPr>
          <a:xfrm>
            <a:off x="1306440" y="0"/>
            <a:ext cx="65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5:39:45Z</dcterms:created>
  <dc:creator>conversion</dc:creator>
  <dc:description/>
  <dc:language>en-US</dc:language>
  <cp:lastModifiedBy>conversion</cp:lastModifiedBy>
  <dcterms:modified xsi:type="dcterms:W3CDTF">2015-10-13T05:40:16Z</dcterms:modified>
  <cp:revision>1</cp:revision>
  <dc:subject/>
  <dc:title>Slide 1</dc:title>
</cp:coreProperties>
</file>