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C444-9F1C-47CC-ADB0-D359C067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0BDE-C74C-4676-B02D-55A49C43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A16A-6164-4FAD-B26B-1DC7EF49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1FF0-514F-4805-A261-7175C2A9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4A1B-8E83-4841-9B2A-40ED33AA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7245-FA50-4343-B5A5-C46AE6CA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0D26-A595-4FCD-8349-DB5BEA97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4F00-F767-41CE-B9D6-47C00164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45EA-AC0D-4A55-93C1-A323B7A4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1F2B-FE63-4A82-A5FA-3DD5002E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9CD3-FE7B-4851-9079-82263A15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BADF-06C7-4022-91DF-502D81CD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2AE4-91FC-4460-8C96-1D855FCC6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leszek_10e_Box 2.1.jpg"/>
          <p:cNvPicPr/>
          <p:nvPr/>
        </p:nvPicPr>
        <p:blipFill>
          <a:blip r:embed="rId1"/>
          <a:stretch/>
        </p:blipFill>
        <p:spPr>
          <a:xfrm>
            <a:off x="2487600" y="0"/>
            <a:ext cx="416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leszek_10e_Box 2.1(Continued).jpg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leszek_10e_Box 2.2.jpg"/>
          <p:cNvPicPr/>
          <p:nvPr/>
        </p:nvPicPr>
        <p:blipFill>
          <a:blip r:embed="rId1"/>
          <a:stretch/>
        </p:blipFill>
        <p:spPr>
          <a:xfrm>
            <a:off x="2438280" y="0"/>
            <a:ext cx="426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leszek_10e_Box 2.3.jpg"/>
          <p:cNvPicPr/>
          <p:nvPr/>
        </p:nvPicPr>
        <p:blipFill>
          <a:blip r:embed="rId1"/>
          <a:stretch/>
        </p:blipFill>
        <p:spPr>
          <a:xfrm>
            <a:off x="1785960" y="0"/>
            <a:ext cx="557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Oleszek_10e_Box 2.4.jpg"/>
          <p:cNvPicPr/>
          <p:nvPr/>
        </p:nvPicPr>
        <p:blipFill>
          <a:blip r:embed="rId1"/>
          <a:stretch/>
        </p:blipFill>
        <p:spPr>
          <a:xfrm>
            <a:off x="1798560" y="0"/>
            <a:ext cx="554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Oleszek_10e_Figure 2.1.jpg"/>
          <p:cNvPicPr/>
          <p:nvPr/>
        </p:nvPicPr>
        <p:blipFill>
          <a:blip r:embed="rId1"/>
          <a:stretch/>
        </p:blipFill>
        <p:spPr>
          <a:xfrm>
            <a:off x="0" y="612720"/>
            <a:ext cx="91440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Oleszek_10e_Table 2.1.jpg"/>
          <p:cNvPicPr/>
          <p:nvPr/>
        </p:nvPicPr>
        <p:blipFill>
          <a:blip r:embed="rId1"/>
          <a:stretch/>
        </p:blipFill>
        <p:spPr>
          <a:xfrm>
            <a:off x="409680" y="0"/>
            <a:ext cx="832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3T05:40:41Z</dcterms:created>
  <dc:creator>conversion</dc:creator>
  <dc:description/>
  <dc:language>en-US</dc:language>
  <cp:lastModifiedBy>conversion</cp:lastModifiedBy>
  <dcterms:modified xsi:type="dcterms:W3CDTF">2015-10-13T05:41:00Z</dcterms:modified>
  <cp:revision>1</cp:revision>
  <dc:subject/>
  <dc:title>Slide 1</dc:title>
</cp:coreProperties>
</file>